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553-4875-4A8D-A39B-1F8C317B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ED8-E6DC-4AFD-8F33-5BA00D0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546-04F3-4DD3-8D3A-695E1A2B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FFB-0E8D-4A8F-8802-5C63C80C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B9D-3F2D-4228-B2E2-8F7F2268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15F2-DA88-4FD8-A0E1-5C987F5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8A8F-1F3C-442C-AEC2-FBC42EE8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EC62-9BF1-4E10-A942-DBB2776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364B-C53C-4C2B-84BF-77089FA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272-88D9-47F7-839A-CA2BB65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9931-570E-4C40-963B-C91873E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31B-D30A-413A-934C-733399D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8B7-76E6-4663-9A2A-8DD6B27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86D4-410C-4348-B057-5871E6E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66E-3805-4ED4-94B8-357E8317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C5BF-9865-4327-BFC0-FBD63962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EA70-B4BA-4D8C-AF57-C22F4DA2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63D4-510F-429C-BE77-74A7FBB3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80BF-5C4B-4B1A-A38D-4B62E0A4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82D1-1C25-4E87-B3E8-0B009D33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271F-993A-47B9-96AA-18E5EB1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464C-5B3E-4925-B83D-46AC9CC2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FC1-0D2F-4F2C-BBCF-361B372C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6585-E7AE-4A65-B8AE-7E02CC9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D13F-6868-467B-BC91-D4F99AC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7EC0-8B54-4BF2-B421-1F020AC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DB9F-B732-47D8-A9A5-FF3625B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5F7C-E147-431B-B904-2181082C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2389-937E-4CE2-AE7F-71177AF8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DA79-0978-46A2-BA94-C8CC341E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EDFE-8F0D-4708-9461-2472BE86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532F-66B6-43BA-A609-8233675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90D4-8690-435C-BDEC-633D460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35F-BC18-4222-8669-10B4203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2AF9-2A48-4A2B-87E2-44A8DA99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A45E-7AE8-46C5-91BC-96599298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52F2-DBB8-4CB8-9A63-8BFB5904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D5E6-CF69-4E13-9EF0-7256B592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F052-CA79-4E06-980A-6421519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7C54-CB72-4DD6-8603-F8F4085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B5E07-ABDB-4707-8C38-7071B76C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C127-FB93-4589-8E52-307AF483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5516-7BF8-419F-BAD1-F4EFFC17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6D9-87F4-4EA9-B0BF-676C8C0B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E67-4D6E-463E-841E-6B092E0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318-A17D-4645-9689-C718C4C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C9E-17E1-486B-891E-C33E657B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35F-64B9-411F-8C34-6693E38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155C-8700-4785-8FBC-A239F0FEBB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AE9-28D1-4839-836B-F1279F9DC5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99A0-94BD-43B4-A31A-77ED217C20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42F-2256-49CB-9DBA-66C8AF8BCD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184320" y="214200"/>
            <a:ext cx="36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002060"/>
                </a:solidFill>
                <a:latin typeface="Constantia"/>
              </a:rPr>
              <a:t>Berl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57880" y="713880"/>
            <a:ext cx="32860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b5edfd"/>
                </a:solidFill>
                <a:latin typeface="Constantia"/>
              </a:rPr>
              <a:t>In der Mitte der Stadt steht das höchste Gebäude Berlins, der drittgrößte und einzige </a:t>
            </a:r>
            <a:r>
              <a:rPr b="0" i="1" lang="de-DE" sz="3600" spc="-1" strike="noStrike">
                <a:solidFill>
                  <a:srgbClr val="b5edfd"/>
                </a:solidFill>
                <a:latin typeface="Constantia"/>
              </a:rPr>
              <a:t>Fernsehturm </a:t>
            </a:r>
            <a:r>
              <a:rPr b="0" lang="de-DE" sz="3600" spc="-1" strike="noStrike">
                <a:solidFill>
                  <a:srgbClr val="b5edfd"/>
                </a:solidFill>
                <a:latin typeface="Constantia"/>
              </a:rPr>
              <a:t>Europa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4643640" cy="619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714640" y="713880"/>
            <a:ext cx="31431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Constantia"/>
              </a:rPr>
              <a:t>In Berlin können sie die schönen Barockbauten aus dem 18. und dem 19.Jahrhundert bewundern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5202000" cy="5784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4260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Franklin Gothic Book"/>
              </a:rPr>
              <a:t>Hier kann man die Nikolai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de-DE" sz="3600" spc="-1" strike="noStrike">
                <a:solidFill>
                  <a:srgbClr val="ffffff"/>
                </a:solidFill>
                <a:latin typeface="Franklin Gothic Book"/>
              </a:rPr>
              <a:t>Kirche besichtigen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5572080" cy="403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4429080" y="3214800"/>
            <a:ext cx="4432320" cy="3282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00360" y="0"/>
            <a:ext cx="450036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Franklin Gothic Book"/>
              </a:rPr>
              <a:t>Die Weltzeituhr, die die Zeit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Franklin Gothic Book"/>
              </a:rPr>
              <a:t>in verschiedenen Großstädten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Franklin Gothic Book"/>
              </a:rPr>
              <a:t>der Welt zeigt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072040" y="2143080"/>
            <a:ext cx="339408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3714840" cy="514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3" name="Прямоугольник 5"/>
          <p:cNvSpPr/>
          <p:nvPr/>
        </p:nvSpPr>
        <p:spPr>
          <a:xfrm>
            <a:off x="214200" y="5500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Franklin Gothic Book"/>
              </a:rPr>
              <a:t>Das 39 Stockwe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Franklin Gothic Book"/>
              </a:rPr>
              <a:t>hohe Forum-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14200" y="3000240"/>
            <a:ext cx="4714920" cy="353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Прямоугольник 4"/>
          <p:cNvSpPr/>
          <p:nvPr/>
        </p:nvSpPr>
        <p:spPr>
          <a:xfrm>
            <a:off x="271800" y="2143080"/>
            <a:ext cx="41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030a0"/>
                </a:solidFill>
                <a:latin typeface="Franklin Gothic Book"/>
              </a:rPr>
              <a:t>Der Berliner 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143240" y="142920"/>
            <a:ext cx="4786560" cy="3589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Прямоугольник 6"/>
          <p:cNvSpPr/>
          <p:nvPr/>
        </p:nvSpPr>
        <p:spPr>
          <a:xfrm>
            <a:off x="5000760" y="400068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030a0"/>
                </a:solidFill>
                <a:latin typeface="Franklin Gothic Book"/>
              </a:rPr>
              <a:t>Das Rote Ratha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42960" y="316080"/>
            <a:ext cx="3786120" cy="6224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9" name="TextBox 4"/>
          <p:cNvSpPr/>
          <p:nvPr/>
        </p:nvSpPr>
        <p:spPr>
          <a:xfrm>
            <a:off x="4572000" y="571680"/>
            <a:ext cx="414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Arial"/>
              </a:rPr>
              <a:t>Man verbindet  den Namen der 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Arial"/>
              </a:rPr>
              <a:t>mit dem Wort „Bär“. Auf dem Wap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Arial"/>
              </a:rPr>
              <a:t>Berlins sehen wir einen Bären mit der Kr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bf5f9"/>
                </a:solidFill>
                <a:latin typeface="Constantia"/>
              </a:rPr>
              <a:t>Berlin ist die Hauptstadt des wiedervereinigten Deutschland. Hier leben rund 3,5 Millionen Einwohn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8121600" cy="498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Die Spreemetropole (so wird diese Großstadt oft genannt, weil sie an der Spree liegt) ist bald 760 Jahre alt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242120" cy="507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2840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Constantia"/>
              </a:rPr>
              <a:t>Berlin erfreut die Besucher durch zahlreiche historische Bauten und moderne Bauensemble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784840" cy="462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260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d0d0d"/>
                </a:solidFill>
                <a:latin typeface="Constantia"/>
              </a:rPr>
              <a:t>In Berlin gibt es viel zu sehen. Die Stadt ist an Sehenswürdigkeiten reic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7143840" cy="535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71320" y="4857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72428"/>
                </a:solidFill>
                <a:latin typeface="Constantia"/>
              </a:rPr>
              <a:t>Das alte Wahrzeichen Berlins ist das Brandenburger Tor. Es ist jetzt zum Symbol der Einheit geworden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5994360" cy="449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71320" y="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00000"/>
                </a:solidFill>
                <a:latin typeface="Constantia"/>
              </a:rPr>
              <a:t>Die berühmteste Straße Berlins ist die Straße Unter den Linden. Sie hat mehrere Epochen überlebt. Die Straße blühte auf und ging nieder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3:27:33Z</dcterms:created>
  <dc:creator>Катерина</dc:creator>
  <dc:description/>
  <dc:language>en-US</dc:language>
  <cp:lastModifiedBy>Катерина</cp:lastModifiedBy>
  <dcterms:modified xsi:type="dcterms:W3CDTF">2012-05-17T15:28:22Z</dcterms:modified>
  <cp:revision>13</cp:revision>
  <dc:subject/>
  <dc:title>Слайд 1</dc:title>
</cp:coreProperties>
</file>